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FAAC-F4AC-4AAE-88DE-D5978856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0A4-DD95-4053-B599-6B026AD1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176-DD1F-444A-8CE5-36B14A5D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226B-A832-4387-ADF4-82B4DFFE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0486-9D19-418C-9F1C-1E49A8AD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8FEE-387E-47D9-AC8A-2C27D73F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D7E9-0860-4F5C-9776-30650694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DA62-E58A-4684-A1AE-33FF3020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7224-5A26-43C3-9C88-B49D98AD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9354-6318-4ABC-9060-B339346E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E8D2-A83D-4DF3-90D2-392FC99F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1C3D-6C2F-4E86-8D11-FE34C249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25A0-69E5-419D-B2F8-BBBA34A2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6E67-24A6-47F8-A3EC-91DCF1D2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3715-2DE9-4A30-AEC9-C74572F6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C17C-30D5-460C-A61C-85B94D0C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2A00-FB17-4DDB-8354-D3B7C945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737DD-FBF9-4E91-9DBB-C6F8E4F8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B9195-8253-40CB-8835-14DA25A7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D6340-8EF9-4BD9-B6A1-FEB32F69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BA1DC-1AB5-4A67-9D5B-AD588A89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DE3CD-D1B1-4FA4-85DD-DC3F8A8E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250-64D0-4120-BCDA-2A3CF2CE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118BB-2632-4608-89BF-27257331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EA198-2EC7-4C76-858D-04BAF0D2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1D163-AE60-440F-802F-943C14FD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52FB3-3B89-4494-AC83-6A93C3E8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6312-7A98-4A70-A441-6E6BD1DE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F23A2-03AC-4216-AB31-2CD62A7B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16F44-08D0-4FC1-B780-D8BCAA10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9248DE-7CFF-499B-B1AD-66C619E3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093239-2B79-4627-8191-99B761CA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B00F8F-B729-48A8-92D7-C67CED45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3DA-1DDC-4771-89BB-5D3E6ADD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C3B6D7-D182-458F-8F86-255F82A9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B70014-26CE-4E94-A67A-8486D2FC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37E60D-AE29-4E33-95C1-581A431E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ECADBA-DD97-4CFC-9CF5-9DBBAB0C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A10847-A52D-4619-8C1F-AC897A2D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B1C9D9-7F8B-4704-A078-28380466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1B7169-F399-4839-B4B8-D29EB26C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3A3C56-AEE9-4794-B026-2BD64F41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CC5E87-8E3A-4AC5-95C5-3CB051A5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1DE8F-EF73-494B-B8ED-92D67372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145-0DA8-4D05-9CFE-D5EF8A55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6A512-CB18-4CB8-8510-345DF5DB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7BF76-C5A7-4706-82C6-98A16CF8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7F834-442C-4F5F-A45C-D71254EE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4741E-CB1C-4492-B844-6B73E5D3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4CD70-3710-4AD1-ADE8-CCD17510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9C017-AE46-4F7C-816D-44846268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F53EF-8C6B-4DEE-886F-84568226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F43F5-CF07-4F55-A2F4-E8CF4FFA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0FD70-AC38-4D56-983F-BCD9AE79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82A65-BD4C-4A4D-BE0D-89BD6BA6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8CBD-EF7B-456A-8525-4BE62A63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55C45-BCB0-4ED5-8BE1-7632D8CA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6566C-90B5-48AD-9FDB-11A9BB88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29412-6E84-42F6-BBE2-08A349CC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A770E-D0A4-4E05-A72F-0A862669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2AF12-0055-4F1E-8B57-B1460424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8B869-CE39-4E0D-B270-A849CC98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2A110-F334-43EE-9532-C165427A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84653-D569-448A-9EB5-1B253860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ACC35-38E2-454A-AF83-BDF7DA64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C9813-DD46-45FE-BDBE-1962D8B2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45CD-FFDD-49E6-8751-6789B655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B8EBA-A11A-4DE9-BDF4-338428A2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21AC5-CA3C-4990-9808-A6F762D7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FC7C3-DBE7-41F7-9144-FA9A1921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1ED78B-AA13-4FC7-8D7A-5A2BA47C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0282C6-FB40-4046-8FBF-4EE3C830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17058E-EFB6-4329-9239-9E46440F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C20708-2A34-4FD3-8301-D2110456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4312B1-2544-4CCD-9F9E-F9326B7F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5CC7A4-CABB-4AC6-93EA-DE79550C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6F1C9F-32F8-45DC-9C1C-15E5666F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9CBF-E26A-4CA8-8A3F-31DD4211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8259E7-DC61-479C-976C-8A6063A5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192522-6E9F-4C38-9E55-5701CE43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C1B71E-E29A-469E-A504-169DA306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2D7E1D-CC74-4E9F-A2B5-569502CF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13A344-DD34-4F7A-B56D-30846AE8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38F7F-51D6-4A4E-A86D-C7AD53F0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FB9A5-D601-41D8-814C-B07169C1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94F0A-127A-4DDA-A315-88078D7E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B126C-A4E2-4232-800E-0310A8D8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06BC0-A4B1-4486-AA50-7C5EF1D9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4F95-B626-4F6C-8DE9-00CE7242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5AFA5-BA44-46B9-A8EB-AE45F12B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99150-5ED6-473D-AB68-171B2241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B1CAC-B2DC-4800-8CFE-525C5F35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14255-9005-4731-B242-7C1AE382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4280F-1203-464D-8427-7CEBBAF3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901A1-E686-4EDE-AF1F-580DE710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72401-4FED-49BA-AB86-C7D89457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9D28-DDE2-4FFD-B65E-E8ED717CE12D}" type="slidenum"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86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90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94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1BE2-18BE-44FD-8251-EC81D15592FE}" type="slidenum"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67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168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169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0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2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173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4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6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77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8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0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1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3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4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5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08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09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11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15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6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7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19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0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1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22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3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4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25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2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3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4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5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6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7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8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9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0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1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2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3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4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5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6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7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8BD5-3712-41F9-A69F-ABD49F5DF06A}" type="slidenum">
              <a:rPr b="0" lang="es-MX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293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94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295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6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7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98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299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0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1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02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03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4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5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306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7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8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309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0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1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2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3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4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5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6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7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8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9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0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1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2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3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4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5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6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7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9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0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1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34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335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336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337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38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39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40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341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2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3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44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45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6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7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348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49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50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351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7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8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0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1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2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3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A89E-FCA5-446D-9DF5-3196B34F6DD6}" type="slidenum"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419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420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421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22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23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24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425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26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27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28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429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31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432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33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34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435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9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0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1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2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3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4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5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6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7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8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9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0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1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2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3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4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5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6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57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60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461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462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463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64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65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66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467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68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69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70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471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72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73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474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75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76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477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8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9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0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1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2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3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5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6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99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32E1-C694-4CDA-AB7B-386AA36B8C94}" type="slidenum"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545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546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547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48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49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50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551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52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53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54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555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56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57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558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59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60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561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4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5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7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8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9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80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81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82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83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86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587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588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589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90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91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92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593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94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95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96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597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98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99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600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01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02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603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4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5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6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7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8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9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0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1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2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3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4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5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6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7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8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9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0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1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25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7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8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16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17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18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4DBF-4E74-4081-A275-0EE5D3DCAC52}" type="slidenum">
              <a:rPr b="0" lang="es-MX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67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67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67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67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67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7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67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67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67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8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68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68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68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68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8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8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68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0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12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713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714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715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716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717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718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719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720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721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722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723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724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725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726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27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28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729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0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1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2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3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4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5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6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7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8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9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0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1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2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3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4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5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6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7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8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9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0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51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2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3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4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19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20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CBE6-6C3E-485B-923B-EA51E01D12C4}" type="slidenum"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ftr" idx="2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797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798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799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00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01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02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803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04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05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06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807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08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09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810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11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12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813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4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5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6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7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8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9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0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1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2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3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4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5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6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7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8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9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0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35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6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7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838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39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4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41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4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4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4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845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46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47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4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849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50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51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852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53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54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855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6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7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8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9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0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1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2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3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4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5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6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7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8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9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0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1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2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3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4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5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6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77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8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9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0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22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23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24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2D82-B00E-42B9-9D5E-EE0B3AC50F70}" type="slidenum"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ffffff"/>
                </a:solidFill>
                <a:latin typeface="Broadway"/>
              </a:rPr>
              <a:t>Tés e infusiones </a:t>
            </a:r>
            <a:endParaRPr b="0" lang="en-US" sz="6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161928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f9500"/>
                </a:solidFill>
                <a:latin typeface="Broadway"/>
              </a:rPr>
              <a:t>Se realizó una encuesta con una muestra de 70 personas  de las cuales 60 sí consumen tè.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924" name="2 Gráfico" descr=""/>
          <p:cNvPicPr/>
          <p:nvPr/>
        </p:nvPicPr>
        <p:blipFill>
          <a:blip r:embed="rId1"/>
          <a:stretch/>
        </p:blipFill>
        <p:spPr>
          <a:xfrm>
            <a:off x="4211640" y="3541680"/>
            <a:ext cx="5256360" cy="3316320"/>
          </a:xfrm>
          <a:prstGeom prst="rect">
            <a:avLst/>
          </a:prstGeom>
          <a:ln w="0">
            <a:noFill/>
          </a:ln>
        </p:spPr>
      </p:pic>
      <p:pic>
        <p:nvPicPr>
          <p:cNvPr id="925" name="5 Imagen" descr=""/>
          <p:cNvPicPr/>
          <p:nvPr/>
        </p:nvPicPr>
        <p:blipFill>
          <a:blip r:embed="rId2"/>
          <a:stretch/>
        </p:blipFill>
        <p:spPr>
          <a:xfrm rot="20737200">
            <a:off x="988920" y="4090680"/>
            <a:ext cx="21240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aaea25"/>
                </a:solidFill>
                <a:latin typeface="Copperplate Gothic Light"/>
              </a:rPr>
              <a:t>La edad promedio de los consumidores entrevistados fue de 31 año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aaea25"/>
                </a:solidFill>
                <a:latin typeface="Copperplate Gothic Light"/>
              </a:rPr>
              <a:t>Grafica 1 nos muestra que tés son los mas consumido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927" name="6 Gráfico" descr=""/>
          <p:cNvPicPr/>
          <p:nvPr/>
        </p:nvPicPr>
        <p:blipFill>
          <a:blip r:embed="rId1"/>
          <a:stretch/>
        </p:blipFill>
        <p:spPr>
          <a:xfrm>
            <a:off x="1103400" y="2981160"/>
            <a:ext cx="629100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f7f7f"/>
                </a:solidFill>
                <a:latin typeface="Copperplate Gothic Light"/>
              </a:rPr>
              <a:t>Grafica 2 nos muestra los principales motivos que tienen los consumidores para tomar un té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929" name="11 Gráfico" descr=""/>
          <p:cNvPicPr/>
          <p:nvPr/>
        </p:nvPicPr>
        <p:blipFill>
          <a:blip r:embed="rId1"/>
          <a:stretch/>
        </p:blipFill>
        <p:spPr>
          <a:xfrm>
            <a:off x="1116000" y="1847880"/>
            <a:ext cx="67658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1 Rectángulo"/>
          <p:cNvSpPr/>
          <p:nvPr/>
        </p:nvSpPr>
        <p:spPr>
          <a:xfrm>
            <a:off x="900000" y="103032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030a0"/>
                </a:solidFill>
                <a:latin typeface="Copperplate Gothic Light"/>
              </a:rPr>
              <a:t>Esta Grafica  nos muestra los mal- esterares que los consumidores atacan con  el té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31" name="7 Gráfico" descr=""/>
          <p:cNvPicPr/>
          <p:nvPr/>
        </p:nvPicPr>
        <p:blipFill>
          <a:blip r:embed="rId1"/>
          <a:stretch/>
        </p:blipFill>
        <p:spPr>
          <a:xfrm>
            <a:off x="1189080" y="2395440"/>
            <a:ext cx="6669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70c0"/>
                </a:solidFill>
                <a:latin typeface="Copperplate Gothic Light"/>
              </a:rPr>
              <a:t>Grafica 3 nos muestra cuales son las marcas de la preferencia de los consumidore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933" name="8 Gráfico" descr=""/>
          <p:cNvPicPr/>
          <p:nvPr/>
        </p:nvPicPr>
        <p:blipFill>
          <a:blip r:embed="rId1"/>
          <a:stretch/>
        </p:blipFill>
        <p:spPr>
          <a:xfrm>
            <a:off x="1401840" y="1700280"/>
            <a:ext cx="6194520" cy="4030560"/>
          </a:xfrm>
          <a:prstGeom prst="rect">
            <a:avLst/>
          </a:prstGeom>
          <a:ln w="0">
            <a:noFill/>
          </a:ln>
        </p:spPr>
      </p:pic>
      <p:pic>
        <p:nvPicPr>
          <p:cNvPr id="934" name="1 Imagen" descr=""/>
          <p:cNvPicPr/>
          <p:nvPr/>
        </p:nvPicPr>
        <p:blipFill>
          <a:blip r:embed="rId2"/>
          <a:stretch/>
        </p:blipFill>
        <p:spPr>
          <a:xfrm>
            <a:off x="6659640" y="1851120"/>
            <a:ext cx="1584360" cy="1377720"/>
          </a:xfrm>
          <a:prstGeom prst="rect">
            <a:avLst/>
          </a:prstGeom>
          <a:ln w="0">
            <a:noFill/>
          </a:ln>
        </p:spPr>
      </p:pic>
      <p:pic>
        <p:nvPicPr>
          <p:cNvPr id="935" name="4 Imagen" descr=""/>
          <p:cNvPicPr/>
          <p:nvPr/>
        </p:nvPicPr>
        <p:blipFill>
          <a:blip r:embed="rId3"/>
          <a:stretch/>
        </p:blipFill>
        <p:spPr>
          <a:xfrm rot="20228400">
            <a:off x="776160" y="467352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936" name="5 Imagen" descr=""/>
          <p:cNvPicPr/>
          <p:nvPr/>
        </p:nvPicPr>
        <p:blipFill>
          <a:blip r:embed="rId4"/>
          <a:stretch/>
        </p:blipFill>
        <p:spPr>
          <a:xfrm rot="20555400">
            <a:off x="6451200" y="4808160"/>
            <a:ext cx="1459080" cy="1050840"/>
          </a:xfrm>
          <a:prstGeom prst="rect">
            <a:avLst/>
          </a:prstGeom>
          <a:ln w="0">
            <a:noFill/>
          </a:ln>
        </p:spPr>
      </p:pic>
      <p:pic>
        <p:nvPicPr>
          <p:cNvPr id="937" name="6 Imagen" descr=""/>
          <p:cNvPicPr/>
          <p:nvPr/>
        </p:nvPicPr>
        <p:blipFill>
          <a:blip r:embed="rId5"/>
          <a:stretch/>
        </p:blipFill>
        <p:spPr>
          <a:xfrm>
            <a:off x="1200240" y="1878120"/>
            <a:ext cx="13348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23adc"/>
                </a:solidFill>
                <a:latin typeface="Broadway"/>
              </a:rPr>
              <a:t>Los consumidores eligen su té de acuerdo a: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e3d2d"/>
                </a:solidFill>
                <a:latin typeface="Broadway"/>
              </a:rPr>
              <a:t>             </a:t>
            </a:r>
            <a:r>
              <a:rPr b="0" lang="es-MX" sz="3200" spc="-1" strike="noStrike">
                <a:solidFill>
                  <a:srgbClr val="e563f3"/>
                </a:solidFill>
                <a:latin typeface="Broadway"/>
              </a:rPr>
              <a:t>1. sabor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563f3"/>
                </a:solidFill>
                <a:latin typeface="Broadway"/>
              </a:rPr>
              <a:t>             </a:t>
            </a:r>
            <a:r>
              <a:rPr b="0" lang="es-MX" sz="3200" spc="-1" strike="noStrike">
                <a:solidFill>
                  <a:srgbClr val="e563f3"/>
                </a:solidFill>
                <a:latin typeface="Broadway"/>
              </a:rPr>
              <a:t>2. propiedades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563f3"/>
                </a:solidFill>
                <a:latin typeface="Broadway"/>
              </a:rPr>
              <a:t>             </a:t>
            </a:r>
            <a:r>
              <a:rPr b="0" lang="es-MX" sz="3200" spc="-1" strike="noStrike">
                <a:solidFill>
                  <a:srgbClr val="e563f3"/>
                </a:solidFill>
                <a:latin typeface="Broadway"/>
              </a:rPr>
              <a:t>3. precio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563f3"/>
                </a:solidFill>
                <a:latin typeface="Broadway"/>
              </a:rPr>
              <a:t>             </a:t>
            </a:r>
            <a:r>
              <a:rPr b="0" lang="es-MX" sz="3200" spc="-1" strike="noStrike">
                <a:solidFill>
                  <a:srgbClr val="e563f3"/>
                </a:solidFill>
                <a:latin typeface="Broadway"/>
              </a:rPr>
              <a:t>4. marca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939" name="1 Imagen" descr=""/>
          <p:cNvPicPr/>
          <p:nvPr/>
        </p:nvPicPr>
        <p:blipFill>
          <a:blip r:embed="rId2"/>
          <a:stretch/>
        </p:blipFill>
        <p:spPr>
          <a:xfrm rot="20436000">
            <a:off x="6361200" y="4136760"/>
            <a:ext cx="2006640" cy="2008080"/>
          </a:xfrm>
          <a:prstGeom prst="rect">
            <a:avLst/>
          </a:prstGeom>
          <a:ln w="0">
            <a:noFill/>
          </a:ln>
        </p:spPr>
      </p:pic>
      <p:pic>
        <p:nvPicPr>
          <p:cNvPr id="940" name="3 Imagen" descr=""/>
          <p:cNvPicPr/>
          <p:nvPr/>
        </p:nvPicPr>
        <p:blipFill>
          <a:blip r:embed="rId3"/>
          <a:stretch/>
        </p:blipFill>
        <p:spPr>
          <a:xfrm>
            <a:off x="679320" y="4892760"/>
            <a:ext cx="1684440" cy="1528560"/>
          </a:xfrm>
          <a:prstGeom prst="rect">
            <a:avLst/>
          </a:prstGeom>
          <a:ln w="0">
            <a:noFill/>
          </a:ln>
        </p:spPr>
      </p:pic>
      <p:pic>
        <p:nvPicPr>
          <p:cNvPr id="941" name="4 Imagen" descr=""/>
          <p:cNvPicPr/>
          <p:nvPr/>
        </p:nvPicPr>
        <p:blipFill>
          <a:blip r:embed="rId4"/>
          <a:stretch/>
        </p:blipFill>
        <p:spPr>
          <a:xfrm rot="982200">
            <a:off x="5806800" y="2168280"/>
            <a:ext cx="20923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000"/>
                </a:solidFill>
                <a:latin typeface="Copperplate Gothic Light"/>
              </a:rPr>
              <a:t>Grafica 4 nos muestra el gasto mensual de  los consumidores en té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943" name="9 Gráfico" descr=""/>
          <p:cNvPicPr/>
          <p:nvPr/>
        </p:nvPicPr>
        <p:blipFill>
          <a:blip r:embed="rId1"/>
          <a:stretch/>
        </p:blipFill>
        <p:spPr>
          <a:xfrm>
            <a:off x="1189080" y="1847880"/>
            <a:ext cx="66927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6700"/>
                </a:solidFill>
                <a:latin typeface="Century Gothic"/>
              </a:rPr>
              <a:t>Grafica 5 nos muestra el lugar en donde los consumidores adquieren su producto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945" name="10 Gráfico" descr=""/>
          <p:cNvPicPr/>
          <p:nvPr/>
        </p:nvPicPr>
        <p:blipFill>
          <a:blip r:embed="rId1"/>
          <a:stretch/>
        </p:blipFill>
        <p:spPr>
          <a:xfrm>
            <a:off x="895320" y="1847880"/>
            <a:ext cx="6627960" cy="4174920"/>
          </a:xfrm>
          <a:prstGeom prst="rect">
            <a:avLst/>
          </a:prstGeom>
          <a:ln w="0">
            <a:noFill/>
          </a:ln>
        </p:spPr>
      </p:pic>
      <p:pic>
        <p:nvPicPr>
          <p:cNvPr id="946" name="1 Imagen" descr=""/>
          <p:cNvPicPr/>
          <p:nvPr/>
        </p:nvPicPr>
        <p:blipFill>
          <a:blip r:embed="rId2"/>
          <a:stretch/>
        </p:blipFill>
        <p:spPr>
          <a:xfrm rot="1227600">
            <a:off x="4730760" y="1949040"/>
            <a:ext cx="334152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5T01:10:43Z</dcterms:created>
  <dc:creator>datl59</dc:creator>
  <dc:description/>
  <dc:language>en-US</dc:language>
  <cp:lastModifiedBy>Katty</cp:lastModifiedBy>
  <dcterms:modified xsi:type="dcterms:W3CDTF">2012-05-05T03:51:58Z</dcterms:modified>
  <cp:revision>10</cp:revision>
  <dc:subject/>
  <dc:title>Tes e infusiones</dc:title>
</cp:coreProperties>
</file>